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ИНТЕГРИСАНЕ АКАДЕМСКЕ </a:t>
            </a: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СТУДИЈЕ ФАРМ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79280" y="2852640"/>
            <a:ext cx="878544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ВОД У ФАРМАЦЕУТСКУ ТЕХНОЛИГИЈУ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А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давање 14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брада рецепата из области суспензија,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ирупа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сти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/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i salycilici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lfuris praecipitat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,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nci oxydi                       20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yceroli                            5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ae purificat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thanoli diluti  aa ad    200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f. suspens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S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ља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cidum salicilic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 Jug IV – s.conc = 2%       1: 200 = X : 100    X = 0,5 &lt;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ulfur precipitat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 Jug IV – s.conc = 10%       20 : 200 = X : 100    X =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Zinci oxy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 Jug IV – s.conc = 10%         20 : 200 = X : 100    X =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0" y="836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ethanoli d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: 67 = 77 : X      X = 51,59 g  conc. Aeth.   +     25,41 g v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лицилна киселина, сумпор и цинк се одмере на картиц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лицилна се раствори у конц. Етанолу а остале супстанце се помешају на одговарајући начин  у тарион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а се растрља глицеро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епено се разблажује са смешом воде и алкохо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вити мало воде за испир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а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септ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/ 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i borici sol. 4%         50,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nci oxy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ci veneti      aa              3,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ffini liquidi               65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ol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elini albi     aa         150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ae purificatae            65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f. unguent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S.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зати кож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cidum boric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 Jug. IV. S.conc. = 10%       100 : 4 = 50 : X       X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: 487 = X : 100     X = 0,41 &lt;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би се направио раствор борне користи се 2г борне и 48г в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Zinci oxy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 Jug. IV. S.conc. = 10%     3,5 : 487 = X : 100    X =  0,72% &lt;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ити раствор борне кисели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нк и талк се помешају у тарионику,  пренесу у патену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се помеша са раствором борне кисели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не компоненте се отопе, дода се водена фаза и све измеш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орцијама се подлога додаје прашкастим компонента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6840" y="1164960"/>
            <a:ext cx="82184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Sirupi aurantii      20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f. sirup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 suo nom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иналан је по Ph.Jug IV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rantii tinctura 15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rupus simplex 85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: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авне компоненте се помешају, остави 24х на хладном месту и филтр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е и употреба: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ген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ање: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уној, добро затвореној стерилисаној боци, на хладном месту, заштићено од светл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marijana</cp:lastModifiedBy>
  <dcterms:modified xsi:type="dcterms:W3CDTF">2019-01-17T12:14:13Z</dcterms:modified>
  <cp:revision>67</cp:revision>
  <dc:subject/>
  <dc:title>Slide 1</dc:title>
</cp:coreProperties>
</file>